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734-7302-450E-B81E-DC40BF65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0EC-9D64-440A-98A9-8ABE0C7E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E3B-AE0E-4BB7-9BCE-872BF1F2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A08-7E50-4DCE-9D60-AD688776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D72-A50B-4183-8409-2EF7A6B0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3D7-1DAC-424A-AD1A-126D375D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A22-C93A-43FD-B8D4-716FB7C3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9CA-9B0A-4C41-8D20-473B93F9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7A7-DD5B-49AA-A766-7D2C4AC3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D31-F67F-44CF-A0C9-1C42964B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13A-040F-46F5-9BE1-10BC088D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3C2-F806-4174-9122-FFD27117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910C-AA35-40CD-8840-0AAE271738F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SELHO NACIONAL DE RECURSOS HIDRICO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âmara Técnica de Educação, Capacitação, Mobilizaçação Social e INformação em Recursos Hidricos - CTEM</a:t>
            </a:r>
            <a:br>
              <a:rPr sz="2000"/>
            </a:b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rupo de Trabalho de Capacitação e Edu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4653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o questionário aplicado na Oficina realizada no Encontro Nacional de Comitês de Bacia/2006 em Vila Velha/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364000" y="0"/>
            <a:ext cx="3780000" cy="6858000"/>
            <a:chOff x="5364000" y="0"/>
            <a:chExt cx="3780000" cy="6858000"/>
          </a:xfrm>
        </p:grpSpPr>
        <p:graphicFrame>
          <p:nvGraphicFramePr>
            <p:cNvPr id="44" name=""/>
            <p:cNvGraphicFramePr/>
            <p:nvPr/>
          </p:nvGraphicFramePr>
          <p:xfrm>
            <a:off x="5364000" y="4581360"/>
            <a:ext cx="3780000" cy="2276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64000" y="4581360"/>
                      <a:ext cx="3780000" cy="22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5508720" y="3154320"/>
            <a:ext cx="3635280" cy="2219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08720" y="3154320"/>
                      <a:ext cx="363528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5724360" y="0"/>
            <a:ext cx="3313440" cy="20685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4360" y="0"/>
                      <a:ext cx="3313440" cy="20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5580000" y="1484280"/>
            <a:ext cx="3564000" cy="239256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80000" y="1484280"/>
                      <a:ext cx="3564000" cy="239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804000" y="33336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entro Oe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20360" y="1773360"/>
              <a:ext cx="81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udes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66160" y="364500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u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48720" y="501336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orde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4537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cipantes por Região e Seg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5589720"/>
            <a:ext cx="352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88 questionarios respon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2 respostas val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413000"/>
          <a:ext cx="5905440" cy="4163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1413000"/>
                    <a:ext cx="5905440" cy="41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9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cipou dos debates doPlano Nacional de Recursos Hidricos (   )? da Conferência Nacional de Meio Ambiente (   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1665360"/>
          <a:ext cx="7272360" cy="41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65360"/>
                    <a:ext cx="727236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87240" y="6116760"/>
            <a:ext cx="409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s: houve ocorrência de respostas dup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2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balha com capacitação em Recursos Hidricos (   )? Em seu comitê (   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5876640"/>
            <a:ext cx="6120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s: Houve ocorrência de respostas dup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484280"/>
          <a:ext cx="7129440" cy="42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12944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á quanto tempo participa do Comit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4000" y="1484280"/>
          <a:ext cx="770400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770400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is os principais instrumentos e ações de capacitação e educação desenvolvidos no seu comitê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940000" y="1700280"/>
            <a:ext cx="2808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nos de 10% indicaram programas especificos realizados pelo Comit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836640"/>
          <a:ext cx="5761080" cy="574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576108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931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o seu Comitê tem equacionado o financiamento para as ações de capacitação e educação em recursos hidric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11280" y="692280"/>
          <a:ext cx="5616360" cy="590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692280"/>
                    <a:ext cx="56163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is os principais públicos envolvidos nas ações de capacitação e educação em seu Comitê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765000"/>
          <a:ext cx="7561080" cy="609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65000"/>
                    <a:ext cx="756108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6:23:12Z</dcterms:created>
  <dc:creator> bagapito</dc:creator>
  <dc:description/>
  <dc:language>en-US</dc:language>
  <cp:lastModifiedBy>Residencial</cp:lastModifiedBy>
  <dcterms:modified xsi:type="dcterms:W3CDTF">2006-09-14T02:10:39Z</dcterms:modified>
  <cp:revision>7</cp:revision>
  <dc:subject/>
  <dc:title>Slide 1</dc:title>
</cp:coreProperties>
</file>